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27D-198A-4B77-B543-249534D3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3BA-66A2-44C9-8684-49E6D64E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4D2-180D-4B85-ABCA-CD8D9B16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E41-E1BB-4DED-B192-5B69CF95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3B4C-352E-4E64-B878-E9CDD5EA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8F1F-F224-45C8-AF85-8FCC8395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5621-2810-453F-A84D-BC9545A2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2D19-6BD7-4BF3-A574-F0EA8320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12FE-A4EF-4AE4-9DE4-72426291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AF33-003A-4359-91A9-3990F5E4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2B51-138E-4E52-B332-2F1EE240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24E-468D-48D3-97AE-D2AF16A2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EF4B-9545-4325-8C8A-AFCF0DF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9108-D8EE-4BD4-992E-8FA68A92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25BB-F45F-42AB-ACFE-74E03669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20E6-DFF1-4217-AA4E-60B61DD3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BF64-00A7-4389-BC19-3141752F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B12-0A21-432C-9FFD-FC228675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E57-2D1B-45A3-985B-F0429401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A22-63AC-43BC-87A3-BF95E7AD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2E4-B8EA-4EC6-AEAE-FA416C5C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85D-BD6C-4B10-9FF1-DCF4E42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96C-9CAE-4A82-BEAE-B3AE9ACC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62E8-6305-447E-B2A2-B42DA6E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B7A0-E5DB-4D4A-9DBB-2D9AC6890D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CB59-0038-4737-8D88-0AAE32B6C5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86040" y="533160"/>
            <a:ext cx="29718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</a:t>
            </a:r>
            <a:r>
              <a:rPr b="0" lang="en-US" sz="4800" spc="-1" strike="noStrike" baseline="30000">
                <a:solidFill>
                  <a:srgbClr val="b2b2b2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aMS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ame Nigh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257440" y="3886200"/>
            <a:ext cx="3429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group numb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or prize en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499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rzano’s Six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Six:  Periodically, students are involved in games that allow them to play with the te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y the way: None of the research supports copying the definition from the back of the book and using it in a sent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the rules (see hand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eams of 4-5 play against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again – use clues related to math and science content – goal is to review, not just guess the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boo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a list of word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rom HAPG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list by number of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groups make Taboo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a set of cards by compiling all cards from all classes (easy to make 1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 game using entire set with each class in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learn while making cards and while pla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boo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your group to make at least six c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op: vocabulary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eted list of three “taboo”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you do not make all key words tabo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his card help others learn this vocabula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bjective: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o learn ways to make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ew engaging,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cluding an understanding of research-based strategies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Vocabulary, TAKS formatted questions, concep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ink a minut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you are doing review activiti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your students authenticall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ngag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tuden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e ones doing the 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your students work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$100,000 Pyram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p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erson facing screen, other with back to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lues related to content area – make yourself review the vocabulary (goal is not to just guess the wo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in order.  Don’t skip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v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o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5424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3886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9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2529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E/7E Model of Instruc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5396040"/>
            <a:ext cx="23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539604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41008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871800"/>
            <a:ext cx="23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8718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ic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qui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47800" y="5029200"/>
            <a:ext cx="29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uble Hel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41008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48200" y="542448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14760" y="388620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14840" y="3505320"/>
            <a:ext cx="26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529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9200" y="5410080"/>
            <a:ext cx="29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9040" y="5410080"/>
            <a:ext cx="26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t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24520" y="542448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2760" y="388620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3457440"/>
            <a:ext cx="26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rizonta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529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q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Building Academic Vocabula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 Steps to Effective Vocabulary Instru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Robert Marz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2:36:10Z</dcterms:created>
  <dc:creator>HISD</dc:creator>
  <dc:description/>
  <dc:language>en-US</dc:language>
  <cp:lastModifiedBy>HISD</cp:lastModifiedBy>
  <dcterms:modified xsi:type="dcterms:W3CDTF">2009-01-27T20:39:17Z</dcterms:modified>
  <cp:revision>6</cp:revision>
  <dc:subject/>
  <dc:title>A2TeaMS Game Night</dc:title>
</cp:coreProperties>
</file>